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6B9D-1A83-41B8-A38C-A7AAC54BF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D0FE-CDF8-486C-91EC-391F46A80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394-5747-4D36-AFCD-D3D84A579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6D0-50A7-4AC3-B796-4CB1C3C9F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4C95-BCDE-4523-A7F8-E854AD3DE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258-7EBB-460E-8499-BD990E54E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9210-0538-466A-BAC0-E9E1EE987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9A8-A8EB-4C18-9748-8D691EAD9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ED8-CB81-47EC-848A-6D721C435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6D28-8D25-4536-AB42-1BC925B98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2934-B85C-4CFE-9A67-E9129A722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DF8-75F2-4EE7-8FDD-38678497F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23F6-9914-4E5E-9458-8DE137CDA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995-B845-49B8-BA64-1E20F03E7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931F-B918-4B08-AEA2-E51631C7F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485-2B7B-45AD-A5B8-B3871DD26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0AE-D39D-488E-9AE6-8C373F85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875-D8FE-431A-A934-6693E39B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496-E2A8-4A2B-B705-72CC91A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109-B746-4C95-AC11-44B756F5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4D5A-9BCF-4BE1-97CD-D8A5D2DE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37E-11C2-419B-BA84-4258F95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418F-F51C-4D1F-831F-5061D10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CA6-1A27-4D41-AE97-3C4E0A1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C6A4-D250-46FA-A4DE-AE6F3259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F79B-1FFE-44B9-A85C-479AF15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9DC-12AF-40D3-939B-51665DD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8D9-53C9-4AEC-B008-C17B084B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7AF5-E27D-44DA-AA0B-0875FAC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C17B-D7DC-495A-BA88-B8E798E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D0EC-3342-4B75-A19A-822EF2C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6206-55D7-43E9-B11F-1C032F70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F7E8-B3A5-46A3-89D2-E4436346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151F2-FFBC-482A-BBCA-63740A6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A6F88-0A54-4AE1-9DA2-671D868B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41DE3-54B0-4520-A2F8-3548B75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578F2-CB5E-40CD-8C36-D1B7C77F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36FDD-DB50-499E-89B4-3E888AC5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21D-70A9-4B40-A464-0EF8E457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62F0E-3761-4856-9195-4BE0C17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16361-A29B-4D00-9E6F-2319B6B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35A76-E368-4D9F-BF67-7F64303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83A1B-9037-4E25-9569-FC149D3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28FA9-19EB-4416-A670-AF5EDE6E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771BD-6049-4833-8146-685D2825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A4EC9-327E-4403-A508-840D767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1AF2-D00C-4F51-BD84-63ABED0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AA35-F931-4C83-9F4B-AD6815C4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424A-2441-42A6-9E49-EA7B1F2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BA7-48EA-49CF-BDE9-48875AB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4286-88C0-4167-B4A4-1C0EF4E2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0E72-94AE-4F56-B355-0E02E8E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47D4-2DF6-45AB-A6CC-4B74E2F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C672-89FF-4C6A-9B09-3274F3E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4E3C-24F8-4F7B-8640-9220963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22EA-228D-4588-9827-017D70C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AA3E-A924-42C7-B3DF-221636C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364F-BA6D-4B72-911B-A9ACFAA9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D484-32DE-49DE-A0FD-0AF339BF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AE639-7899-4866-A402-F50C26BE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172-5EF9-47A3-924D-76CEFF2C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E9759-E260-41E0-9D32-9833356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A5186-78CA-47BE-9711-8F17851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2E911-42DD-4373-B665-84511607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8D9C2-C030-4ECB-BCBC-39EC7E5D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839A0-E771-47E3-898D-141653B6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863EE-9DC3-4E63-A3C9-DE8D6D1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7B4DC-F52E-4E60-95F6-D060228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B021E-8C03-44C5-A9B2-D66D2BFD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A657E-362C-473B-950B-86B4684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B2A1B-39FF-4EFA-94B9-8FA9C0F3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1D9-316F-40A7-BF6A-C78B9BA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545A3-48E1-4455-A97A-C069EEB3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30E2D-C752-456C-8ECB-CD6C6894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0E263-1C23-4E79-8775-58470776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8CD2C-344F-4E9E-9352-753FE7FD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E90AD-9D02-4323-9D16-2F41F62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E8246-344A-44D4-A84C-4E612724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DC74B-DD49-4EC4-9C98-0258AF06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C82F3-00BE-4810-9C0D-DC5A5B8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B944D-61E5-435B-86EC-3829FE5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B66AE-D660-423E-B391-D8B79E3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173-57E4-4F7D-9061-AC6C06A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31638-74FE-4014-9918-603BB67A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E5A43-AB6E-441B-80B8-FF8EE17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4E54C-4CF6-42B1-AA21-312F8B2C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31308-97D5-4E3E-B260-9CB977A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97763-E054-48AF-AC31-1FBDE6F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57BDB-5DB8-4BCA-BB77-2B17B07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F826C-A3A2-4B95-AD91-E70929D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6F407-65E6-46A3-AB1B-29A2759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93C5F-7F84-442A-8058-75A1EB8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94C53-EAB0-4A77-A2F2-1ECD204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AAA-7F49-42EB-9F5E-24DD206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0D796-99DC-4F11-AB7C-BD86190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0F4F7-8194-4482-96C6-D9C2B97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BF184-7176-4159-8054-6FB479C9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E2D6C-BF7C-4835-82DA-1C1A83E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EBB8B-531F-4A63-9E50-1D9BA167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C83-E2E6-44A9-A263-8BE3278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CE1-AC06-40A6-AFB3-06822ECB400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573-12F7-4FC1-B530-C87D161ABF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2A1-D8A8-4A12-B5C8-0E69023F57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70D-95E6-422C-92BD-063106C514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8E2-9C25-4B55-9AE0-7E56FEEA73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80B8-FC41-4468-A9E4-B95634CB2F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BD2-9534-4CF1-8E80-FA254651F9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Coal_mining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al_mining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al_mining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hyperlink" Target="http://en.wikipedia.org/wiki/Coal_minin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ii.org/Minerals/photoman.html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bendi.com/indy/ming/mang/p0005.htm" TargetMode="External"/><Relationship Id="rId2" Type="http://schemas.openxmlformats.org/officeDocument/2006/relationships/hyperlink" Target="http://en.wikipedia.org/wiki/Manganese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om/finance?q=NYSE:BHP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Phosphate" TargetMode="External"/><Relationship Id="rId3" Type="http://schemas.openxmlformats.org/officeDocument/2006/relationships/hyperlink" Target="http://www.mii.org/Minerals/photophos.html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i.org/Minerals/photophos.html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Coal_mining" TargetMode="External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ongabay.com/images/commodities/charts/chart-phosphate.html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1212840" y="1785960"/>
            <a:ext cx="7480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"/>
          <p:cNvSpPr/>
          <p:nvPr/>
        </p:nvSpPr>
        <p:spPr>
          <a:xfrm>
            <a:off x="1752480" y="16002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 sedimentary rock composed predominantly of solid organic materials with a greater or lesser proportion of mineral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ig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derived from the accumulation of plant remains in sedimentary basins, and is altered to solid rock by heat and pressure applied during the basin’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Rectangle 4" descr=""/>
          <p:cNvPicPr/>
          <p:nvPr/>
        </p:nvPicPr>
        <p:blipFill>
          <a:blip r:embed="rId1"/>
          <a:stretch/>
        </p:blipFill>
        <p:spPr>
          <a:xfrm>
            <a:off x="2206800" y="165240"/>
            <a:ext cx="5419440" cy="11458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3505320" y="6211800"/>
            <a:ext cx="5638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Arrow 6">
            <a:hlinkClick r:id="rId3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eft Arrow 7">
            <a:hlinkClick r:id="rId4" action="ppaction://hlinksldjump"/>
          </p:cNvPr>
          <p:cNvSpPr/>
          <p:nvPr/>
        </p:nvSpPr>
        <p:spPr>
          <a:xfrm>
            <a:off x="15228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1676520" y="22860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oal Of Coal Mi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economically remove coal from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C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s a fuel for extraction of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om iron 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cem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3429000" y="6211800"/>
            <a:ext cx="57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eft Arrow 6">
            <a:hlinkClick r:id="rId2" action="ppaction://hlinksldjump"/>
          </p:cNvPr>
          <p:cNvSpPr/>
          <p:nvPr/>
        </p:nvSpPr>
        <p:spPr>
          <a:xfrm>
            <a:off x="228600" y="57913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7">
            <a:hlinkClick r:id="rId3" action="ppaction://hlinksldjump"/>
          </p:cNvPr>
          <p:cNvSpPr/>
          <p:nvPr/>
        </p:nvSpPr>
        <p:spPr>
          <a:xfrm>
            <a:off x="1295280" y="58672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4"/>
          <p:cNvSpPr/>
          <p:nvPr/>
        </p:nvSpPr>
        <p:spPr>
          <a:xfrm>
            <a:off x="685800" y="9907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to consider in coal extractio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pth and quality of the s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geology and environment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62120" y="38098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 basic methods of mining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face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ep underground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581280" y="6211800"/>
            <a:ext cx="556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ight Arrow 8">
            <a:hlinkClick r:id="rId2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eft Arrow 9">
            <a:hlinkClick r:id="rId3" action="ppaction://hlinksldjump"/>
          </p:cNvPr>
          <p:cNvSpPr/>
          <p:nvPr/>
        </p:nvSpPr>
        <p:spPr>
          <a:xfrm>
            <a:off x="15228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201600" y="-212760"/>
            <a:ext cx="8886960" cy="11397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609480" y="838080"/>
            <a:ext cx="792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rface Mining Proces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04920" y="12952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Explos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to break through the su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own Arrow 7"/>
          <p:cNvSpPr/>
          <p:nvPr/>
        </p:nvSpPr>
        <p:spPr>
          <a:xfrm rot="16200000">
            <a:off x="3771720" y="14857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4419720" y="12952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Removing the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using draglines or by shovel and tru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419720" y="26668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rilling, fractured &amp; mined in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419720" y="40384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Loading of C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(in trucks or convey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4419720" y="54100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to Coal Preparation Pl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own Arrow 12"/>
          <p:cNvSpPr/>
          <p:nvPr/>
        </p:nvSpPr>
        <p:spPr>
          <a:xfrm>
            <a:off x="586728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own Arrow 13"/>
          <p:cNvSpPr/>
          <p:nvPr/>
        </p:nvSpPr>
        <p:spPr>
          <a:xfrm>
            <a:off x="5867280" y="3581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Down Arrow 14"/>
          <p:cNvSpPr/>
          <p:nvPr/>
        </p:nvSpPr>
        <p:spPr>
          <a:xfrm>
            <a:off x="5867280" y="4952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6"/>
          <p:cNvSpPr/>
          <p:nvPr/>
        </p:nvSpPr>
        <p:spPr>
          <a:xfrm>
            <a:off x="380880" y="60199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rucks loaded with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3429000" y="6400800"/>
            <a:ext cx="57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eft Arrow 18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ight Arrow 19"/>
          <p:cNvSpPr/>
          <p:nvPr/>
        </p:nvSpPr>
        <p:spPr>
          <a:xfrm>
            <a:off x="1295280" y="6400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3"/>
          <p:cNvSpPr/>
          <p:nvPr/>
        </p:nvSpPr>
        <p:spPr>
          <a:xfrm>
            <a:off x="533520" y="2286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ep Underground Mining Proces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5486400" y="685800"/>
            <a:ext cx="327672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stripping of the mountain side to expose a coal s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90720" y="2133720"/>
            <a:ext cx="327636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Removing of coal from an underground coal 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914400" y="685800"/>
            <a:ext cx="327672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xplosives are placed in the holes and ignited in order to break up the coal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838080" y="3352680"/>
            <a:ext cx="365760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cleaning up loose coal and applies rock dust to the coal wall to limit coal dust explosion haz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609480" y="4800600"/>
            <a:ext cx="4191120" cy="1523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After the coal mine has </a:t>
            </a: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advanced to the mine limit - pillars, or blocks of coal that support the top, are extracted as the mining process retreats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own Arrow 10"/>
          <p:cNvSpPr/>
          <p:nvPr/>
        </p:nvSpPr>
        <p:spPr>
          <a:xfrm>
            <a:off x="24382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own Arrow 11"/>
          <p:cNvSpPr/>
          <p:nvPr/>
        </p:nvSpPr>
        <p:spPr>
          <a:xfrm>
            <a:off x="2362320" y="1676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12"/>
          <p:cNvSpPr/>
          <p:nvPr/>
        </p:nvSpPr>
        <p:spPr>
          <a:xfrm>
            <a:off x="243828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Arrow 13"/>
          <p:cNvSpPr/>
          <p:nvPr/>
        </p:nvSpPr>
        <p:spPr>
          <a:xfrm rot="10800000">
            <a:off x="4495320" y="761760"/>
            <a:ext cx="6858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33920" cy="38098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5"/>
          <p:cNvSpPr/>
          <p:nvPr/>
        </p:nvSpPr>
        <p:spPr>
          <a:xfrm>
            <a:off x="5029200" y="57150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al wash pla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Clay County, Kentu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>
            <a:off x="3429000" y="6400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eft Arrow 17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Arrow 18"/>
          <p:cNvSpPr/>
          <p:nvPr/>
        </p:nvSpPr>
        <p:spPr>
          <a:xfrm>
            <a:off x="1295280" y="6400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533520" y="838080"/>
          <a:ext cx="8153280" cy="5410440"/>
        </p:xfrm>
        <a:graphic>
          <a:graphicData uri="http://schemas.openxmlformats.org/drawingml/2006/table">
            <a:tbl>
              <a:tblPr/>
              <a:tblGrid>
                <a:gridCol w="1141200"/>
                <a:gridCol w="1468440"/>
                <a:gridCol w="1548000"/>
                <a:gridCol w="1468440"/>
                <a:gridCol w="1305000"/>
                <a:gridCol w="1222200"/>
              </a:tblGrid>
              <a:tr h="1214640"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ee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al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alachia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500 Btu,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ther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alach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,0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3.0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llinois Basin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800 Btu, 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w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ver Basi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8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a Basi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7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 SO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Rectangle 12" descr=""/>
          <p:cNvPicPr/>
          <p:nvPr/>
        </p:nvPicPr>
        <p:blipFill>
          <a:blip r:embed="rId1"/>
          <a:stretch/>
        </p:blipFill>
        <p:spPr>
          <a:xfrm>
            <a:off x="1974960" y="-212760"/>
            <a:ext cx="5578200" cy="11397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3"/>
          <p:cNvSpPr/>
          <p:nvPr/>
        </p:nvSpPr>
        <p:spPr>
          <a:xfrm>
            <a:off x="1676520" y="6400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http://www.eia.doe.gov/coal/page/coalnews/coalm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eft Arrow 14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2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3" name="HTMLText1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2362320" y="1523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entury Schoolbook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819520" y="4495680"/>
            <a:ext cx="4572000" cy="1791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3733920" y="5715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entury Schoolbook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66880" y="2514600"/>
            <a:ext cx="4724640" cy="16765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2"/>
          <p:cNvSpPr/>
          <p:nvPr/>
        </p:nvSpPr>
        <p:spPr>
          <a:xfrm>
            <a:off x="281952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1752480" y="1600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gray-white metal with a pinkish tinge, and a very brittle but hard metallic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ig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comes from the heat and carbon in the charcoal separated oxygen from the pyrolusite, leaving a metallic manganese resid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4" descr=""/>
          <p:cNvPicPr/>
          <p:nvPr/>
        </p:nvPicPr>
        <p:blipFill>
          <a:blip r:embed="rId1"/>
          <a:stretch/>
        </p:blipFill>
        <p:spPr>
          <a:xfrm>
            <a:off x="1901880" y="165240"/>
            <a:ext cx="6108480" cy="11458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2438280" y="6211800"/>
            <a:ext cx="67057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ii.org/Minerals/photom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6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eft Arrow 7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1676520" y="228600"/>
            <a:ext cx="68580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Mangane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ssential to iron and ste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s an addit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nleaded gaso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agent in organic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in the original typ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ry cell battery as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ceptor from z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in fertilizers, brick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int, and water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2438280" y="6211800"/>
            <a:ext cx="67057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bendi.com/indy/ming/mang/p00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Manga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ight Arrow 4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eft Arrow 5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933960" cy="452448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5" descr=""/>
          <p:cNvPicPr/>
          <p:nvPr/>
        </p:nvPicPr>
        <p:blipFill>
          <a:blip r:embed="rId2"/>
          <a:stretch/>
        </p:blipFill>
        <p:spPr>
          <a:xfrm>
            <a:off x="1974960" y="244440"/>
            <a:ext cx="5578200" cy="113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2819520" y="6211800"/>
            <a:ext cx="63244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www.google.com/finance?q=NYSE%3AB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eft Arrow 8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ight Arrow 9">
            <a:hlinkClick r:id="rId5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3" descr=""/>
          <p:cNvPicPr/>
          <p:nvPr/>
        </p:nvPicPr>
        <p:blipFill>
          <a:blip r:embed="rId1"/>
          <a:stretch/>
        </p:blipFill>
        <p:spPr>
          <a:xfrm>
            <a:off x="1444680" y="133200"/>
            <a:ext cx="6943680" cy="18288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219320" y="13716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the naturally occurring form of the element phosphorus, found in many phosphate minerals. In mineralogy and geology, phosphate refers to a rock or ore containing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m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ed in oceans in the form of calcium phosphate, called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hosphori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The element phosphorus is dissolved from rocks. Some of this phosphorus goes into the soil where plants absorb it; some is carried by streams to the oc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2819520" y="6211800"/>
            <a:ext cx="63244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www.mii.org/Minerals/photo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ight Arrow 6">
            <a:hlinkClick r:id="rId4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eft Arrow 7">
            <a:hlinkClick r:id="rId5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676520" y="2286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Phosph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recover e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to make chemicals 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duction of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ertilizers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make calcium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utritional supplement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2819520" y="6211800"/>
            <a:ext cx="6324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ii.org/Minerals/photo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eft Arrow 5">
            <a:hlinkClick r:id="rId2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Arrow 6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201600" y="-212760"/>
            <a:ext cx="8886960" cy="11397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1752480" y="8380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Removing the top layer of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486400" y="205740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Putting up the matrix in the p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8380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Scooping up the phosphat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486400" y="44956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Removing of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5486400" y="327672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Beneficiation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5486400" y="579132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Flotation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981080" y="5334120"/>
            <a:ext cx="2514600" cy="1143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elivery of rock to chemical processing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Arrow 11"/>
          <p:cNvSpPr/>
          <p:nvPr/>
        </p:nvSpPr>
        <p:spPr>
          <a:xfrm>
            <a:off x="4572000" y="91440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Down Arrow 12"/>
          <p:cNvSpPr/>
          <p:nvPr/>
        </p:nvSpPr>
        <p:spPr>
          <a:xfrm>
            <a:off x="6553080" y="1600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own Arrow 13"/>
          <p:cNvSpPr/>
          <p:nvPr/>
        </p:nvSpPr>
        <p:spPr>
          <a:xfrm>
            <a:off x="6629400" y="2819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Down Arrow 14"/>
          <p:cNvSpPr/>
          <p:nvPr/>
        </p:nvSpPr>
        <p:spPr>
          <a:xfrm>
            <a:off x="6705720" y="4038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own Arrow 15"/>
          <p:cNvSpPr/>
          <p:nvPr/>
        </p:nvSpPr>
        <p:spPr>
          <a:xfrm>
            <a:off x="6705720" y="5334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eft Arrow 17"/>
          <p:cNvSpPr/>
          <p:nvPr/>
        </p:nvSpPr>
        <p:spPr>
          <a:xfrm>
            <a:off x="4648320" y="5943600"/>
            <a:ext cx="609480" cy="3808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3505320" y="6396120"/>
            <a:ext cx="5638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0"/>
          <p:cNvSpPr/>
          <p:nvPr/>
        </p:nvSpPr>
        <p:spPr>
          <a:xfrm>
            <a:off x="838080" y="49528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Scooping up the phosphat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ight Arrow 21">
            <a:hlinkClick r:id="rId4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eft Arrow 22">
            <a:hlinkClick r:id="rId5" action="ppaction://hlinksldjump"/>
          </p:cNvPr>
          <p:cNvSpPr/>
          <p:nvPr/>
        </p:nvSpPr>
        <p:spPr>
          <a:xfrm>
            <a:off x="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807696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609480" y="152280"/>
            <a:ext cx="807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hosphate Rock Pric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ommodity price chart (units)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U.S. dollars per metric ton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0" y="6400800"/>
            <a:ext cx="91440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ongabay.com/images/commodities/charts/chart-phosph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eft Arrow 7">
            <a:hlinkClick r:id="rId3" action="ppaction://hlinksldjump"/>
          </p:cNvPr>
          <p:cNvSpPr/>
          <p:nvPr/>
        </p:nvSpPr>
        <p:spPr>
          <a:xfrm>
            <a:off x="152280" y="5638680"/>
            <a:ext cx="914400" cy="8384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Arrow 8">
            <a:hlinkClick r:id="rId4" action="ppaction://hlinksldjump"/>
          </p:cNvPr>
          <p:cNvSpPr/>
          <p:nvPr/>
        </p:nvSpPr>
        <p:spPr>
          <a:xfrm>
            <a:off x="1219320" y="571500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3:48:53Z</dcterms:created>
  <dc:creator>user</dc:creator>
  <dc:description/>
  <dc:language>en-US</dc:language>
  <cp:lastModifiedBy>ASUS P5PE-VM</cp:lastModifiedBy>
  <dcterms:modified xsi:type="dcterms:W3CDTF">2010-07-05T09:21:04Z</dcterms:modified>
  <cp:revision>34</cp:revision>
  <dc:subject/>
  <dc:title>Slide 1</dc:title>
</cp:coreProperties>
</file>